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272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-457560" y="-360"/>
            <a:ext cx="7715160" cy="57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2720" y="942768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1783ED-409E-4488-9458-6A0A8F443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DABF14-BBDE-4726-A711-A99C77B31B91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늘일 필요가 없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105240-48A8-466C-8BEF-1C25E9ECD4BD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36A7C9-F1DD-4E99-A5B7-870D1C62B280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류계바늘 대신 전자석 이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자석  스위치 사이에 엠보싱 종이를 끼워넣어 부호 기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F05D3D-AA1B-4FE8-85E2-B849C5C96296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281531-BD20-4C0C-A4DF-9577A8E1376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43D862-A306-40A8-A7BB-1E6D245CF819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0956D5-EF8E-48AE-977A-FBF6689C5141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815BB1-AA95-45CC-A531-5C0A9055148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ACEFF8-08FA-401F-845C-1E338BBF00AD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no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10F872-C31B-451D-9A1F-885A7664707C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85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세포이 항쟁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영국정부는 전신과 같은 빠른 통신망의 필요성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89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파쇼다 사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 전신망의 승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저전신 가설 과정에서 물리학자들의 입지 높아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C14CC2-C4B5-4F37-A683-5435A758ADE8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FFF00, FFC8A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=(14+5)*(11+10)*(1+14+5+10) [10bit]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90*66*98=582,12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14bit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4*320*240*30*60/8=424,720,000 Byte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략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00MB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SI 1Byte (2,3,4), utf-8 4Byte,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글자가 늘어날수록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,6,7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니코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Byte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뒤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,8,10)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니코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big endian) 4Byte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뒤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, 8, 10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마다 다를 수 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;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8261AE-7F7C-43DC-BB9E-3B2583504F06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BF661A-2CA6-4F93-849F-D7B743ABD68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A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신 시스템은 매우 효과적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보 심부름꾼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(messenger boy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F138AC-A740-4B1F-8609-5AD2DA5C3E0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3F0E85-7614-4687-A978-7BC208CBB812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838A81-8D9F-4885-8E1C-7C4529114A56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972905-8B21-4AC3-AD1B-8E58E1CF87DB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BBEE5C-17CE-4ABD-9EAD-7AD82E9D6720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468080-8E59-49EC-9A5E-AADE59107814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거 대부분의 정보는 인간을 매개로 전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발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접 사람이 가지 않고도 정보 전달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과 전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84D9C4-6ADA-493E-AFD2-CFBA4D1E1BE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213917-A983-47AE-B2FA-420C8300FE38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8E987C-D5F8-44E3-A1EA-542A195BD779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 &amp; M: man of vision, lacked scientific understan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heatstone: scientific &amp; technical skills;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신이 상업적으로 중요해질 비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1B8848-F2D2-42E6-AB2C-673078C34434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용 문제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많은 전선 이용 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D97099-49B9-4675-90B9-19EDF176DEBA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53D5BA-6726-447D-8B5C-2B8CA96CADF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EEB-0946-4C4E-820D-AC3FAE8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46-1FD2-4DFD-96CB-9FF6CFC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B30-17EF-4557-8181-D01E238C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F3D-02A0-44C0-856C-7D783F02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329A-2D20-4F44-A397-9A026F8A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DEB2-E3AC-4C4B-A95E-D6824CA7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F053-0EA0-4E4F-B313-4195A3B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94B-14CA-420D-B59E-7D8C06D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B5F-BA2D-43F8-BF86-88E19BF9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FED2-F691-4E84-8189-F6D9DFB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A119-83DA-403E-ACF9-5693C33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B53-57CC-4264-BFB3-95C34CB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D04-44B4-495A-8DB9-7B65228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6538-5D1E-47AB-8197-A2BE43F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12B0-D64A-411B-87D6-6D5417E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D749-7C4C-4C19-9770-CE56141C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7B94-463D-4472-B6D4-B5101422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3740-3785-4CF4-8D44-1813FF7E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B2A8-10D8-46F1-8550-C5C95251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DC70-D96F-485D-B924-7BD80F5B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01D9-A269-4108-BFC7-2E58303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DDAD-55B8-4C00-AA29-671AC4D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1D8-132B-4CB3-9D71-4411CBD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9A84-5352-42E4-92D6-5419D1A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6B5F-3BA3-40C4-85CA-CCE25C1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6AB3-757C-44F0-AFB1-E8DDDCE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DC1E-7CED-4B5E-B841-7835664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EE37-8081-4FB0-814D-9DE8FC38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ABC5-59E1-4B6F-9EB6-979B014A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7446-3D16-43B3-BFD4-08F0C676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CFB4-6A4E-4AF2-B233-E9B90163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883B-286D-409D-948B-402D824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4567-47BC-41CB-8E06-57AE9541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8D7-F084-4C5C-AE99-653DDFA6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E672-FEB9-4C3C-919C-138C2F0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5774-20C0-4574-997D-32E3469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6867-67A5-4149-8A32-58A6DF5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32E9-78BF-464F-8F14-B65DDBF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E136-FA09-4353-92AB-6BC9D2A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3252-0AC4-40D8-A47C-AA0C8D5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5E89-FB9F-4228-A333-7057170B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F153-F2D8-49E1-BE21-2F74435B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C3B9-44EB-47CB-8549-EF6BB34A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234FA-6ACC-4C0B-B707-86EC9F68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13F-F07F-49E2-AA55-A8774BB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B184-5842-46BA-9653-8490615D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EA222-A123-443C-9B02-4FAD2AE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D4BA-6589-4796-BF79-E9ED2A9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2A6A-2736-442B-B690-291AD6C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C89D-DAB7-4ED0-A430-F3D327A1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4518-3866-4ACF-A549-BF4A8CE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6C0DB-E7CB-4678-94B5-21ADFA3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8556-E0AD-470B-ACFE-642A14B1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A175-F667-4B8A-B1B8-52959267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ACEC-8326-40BE-B6A6-D0D1EC6A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75E-DB16-4718-97B5-C72835D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A5441-411D-425C-B8D3-8B315B19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EED7-17A1-4542-BA0A-CE1C58D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CD974-2910-4709-90D3-1FACFD46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9D05-94F8-457F-BCFA-D5113D4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42F9-0689-4991-A3B2-28C5B95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E856-624C-44DA-A6BA-9CB8C53A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73742-7E32-40A4-8F33-CA9C9AE0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36615-C8EA-46E6-BA77-3E65053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A68D-865A-424B-91E5-C2CB94C9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C49A-269D-465D-98E7-EBC1EFD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9CF-76BB-47C8-A505-D0905BF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F395-4C40-42EB-A347-5FA63B5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81F6-36CE-44CD-B741-B49943B3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085C-E312-4669-9B5F-51732C89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04C8-BD01-4A9E-ACBB-BB3F33A6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7B5D6-817C-47DD-B154-1014208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8594-106C-4C67-95BD-A8B0872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8ECC-52B3-4CF3-A7BA-11ACC0C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E0C19-A471-4837-9DE9-6D25D29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CFF7-A984-410E-8C1A-45D7540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416A-B629-4AD2-A7C0-33270EF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E33-340B-4D58-BAC6-186C8D7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11C2-D5EC-450A-A9DC-9D2518E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B957-AEC4-47CC-BDAB-B20E1E9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AB9A-94B7-444F-8E4B-56755B0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B315-7A61-4D7E-B7C7-54C37CD4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4EBB1-2580-40B8-9160-61EEA7D0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14C-21AF-4C62-9CD3-718F66B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094-91B1-4B14-80AE-89BDF63A622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사각형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직사각형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직사각형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직사각형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직사각형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4F28-1FC3-41CD-B26E-7980700947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자유형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자유형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자유형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자유형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자유형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자유형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자유형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자유형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자유형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자유형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자유형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자유형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자유형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자유형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자유형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직사각형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직사각형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직사각형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직사각형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직사각형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직사각형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B02-CF6A-4B6C-9921-6323418057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D9E-5572-482D-8491-3C69292A9D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사각형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직사각형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직사각형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직사각형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직사각형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86EC-3C6A-48A7-9EEE-9FA14C202B1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860A-C689-47E7-8CBE-015D1F47C3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8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직사각형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직선 연결선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315" name="그룹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직선 연결선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직선 연결선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직선 연결선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19" name="그룹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직선 연결선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직선 연결선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직선 연결선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23" name="그룹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직선 연결선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직선 연결선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직선 연결선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843-D646-4936-99FA-6F4C6750A3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legraph.co.uk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emory.loc.gov/mss/magbell/253/25300201/002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5" descr=""/>
          <p:cNvPicPr/>
          <p:nvPr/>
        </p:nvPicPr>
        <p:blipFill>
          <a:blip r:embed="rId1"/>
          <a:stretch/>
        </p:blipFill>
        <p:spPr>
          <a:xfrm>
            <a:off x="487440" y="1639800"/>
            <a:ext cx="8192880" cy="218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01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년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9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월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일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정동욱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708360" y="1557000"/>
            <a:ext cx="4392720" cy="36003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바늘 동작 </a:t>
            </a:r>
            <a:r>
              <a:rPr b="1" lang="ko-KR" sz="2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횟수</a:t>
            </a:r>
            <a:r>
              <a:rPr b="1" lang="ko-KR" sz="2600" spc="-1" strike="noStrike">
                <a:solidFill>
                  <a:srgbClr val="ffffff"/>
                </a:solidFill>
                <a:latin typeface="Georgia"/>
              </a:rPr>
              <a:t>”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로 문자식별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own-Down : A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-D-D : B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-Up : D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U-D-U-D : Y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London-Slough 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철도 전신선 개통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(1843)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이후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1-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&amp; 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사운더로 개량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alibri"/>
              </a:rPr>
              <a:t>Cooke-Wheatstone 2</a:t>
            </a:r>
            <a:r>
              <a:rPr b="0" lang="ko-KR" sz="3400" spc="-1" strike="noStrike">
                <a:solidFill>
                  <a:srgbClr val="c1eeff"/>
                </a:solidFill>
                <a:latin typeface="Calibri"/>
              </a:rPr>
              <a:t>바늘 전신기 </a:t>
            </a:r>
            <a:r>
              <a:rPr b="0" lang="en-US" sz="3400" spc="-1" strike="noStrike">
                <a:solidFill>
                  <a:srgbClr val="c1eeff"/>
                </a:solidFill>
                <a:latin typeface="Calibri"/>
              </a:rPr>
              <a:t>(1843)</a:t>
            </a:r>
            <a:endParaRPr b="1" lang="en-US" sz="3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7" name="Picture 3" descr="Double-NeedleTgr"/>
          <p:cNvPicPr/>
          <p:nvPr/>
        </p:nvPicPr>
        <p:blipFill>
          <a:blip r:embed="rId1"/>
          <a:stretch/>
        </p:blipFill>
        <p:spPr>
          <a:xfrm>
            <a:off x="611280" y="1577880"/>
            <a:ext cx="2987640" cy="3651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Two-Needle-Telegraph-Letter"/>
          <p:cNvPicPr/>
          <p:nvPr/>
        </p:nvPicPr>
        <p:blipFill>
          <a:blip r:embed="rId2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바늘의 움직임 대신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종이에 모스 부호 기록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또는 사운더 이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미국의  모스 부호 방식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826920" y="4940280"/>
            <a:ext cx="7561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WHAT HATH GOD WROUGHT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미국 국회도서관에 보관되어 있는 최초의 공식 모스 전신 전송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워싱턴</a:t>
            </a:r>
            <a:r>
              <a:rPr b="0" lang="ko-K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볼티모어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184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5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일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록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엠보싱 리본 종이에 점과 선으로 출력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전송 문구는 특허국장의 딸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nnie Ellsworth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 고른 것으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성경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3:2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구절이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22" name="Picture 5" descr="morse"/>
          <p:cNvPicPr/>
          <p:nvPr/>
        </p:nvPicPr>
        <p:blipFill>
          <a:blip r:embed="rId1"/>
          <a:stretch/>
        </p:blipFill>
        <p:spPr>
          <a:xfrm>
            <a:off x="826920" y="2060640"/>
            <a:ext cx="75614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4660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검류계 바늘 대신 전자석 이용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모스 전신기의 작동 원리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25" name="Picture 4" descr="morse_electric_circuit_1"/>
          <p:cNvPicPr/>
          <p:nvPr/>
        </p:nvPicPr>
        <p:blipFill>
          <a:blip r:embed="rId1"/>
          <a:stretch/>
        </p:blipFill>
        <p:spPr>
          <a:xfrm>
            <a:off x="755640" y="1916280"/>
            <a:ext cx="8151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전자석 스위치 사이에 종이를 끼워 넣으면 됨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부호가 종이에 기록되는 원리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28" name="Picture 4" descr="Morse second telegraph receiver in 1844"/>
          <p:cNvPicPr/>
          <p:nvPr/>
        </p:nvPicPr>
        <p:blipFill>
          <a:blip r:embed="rId1"/>
          <a:stretch/>
        </p:blipFill>
        <p:spPr>
          <a:xfrm>
            <a:off x="755640" y="1916280"/>
            <a:ext cx="6912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042400" cy="5102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전지의 직렬 연결과 계전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relay)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의 사용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930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년대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헨리가 개발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계전기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: 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차 회로의 작동 여부가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차 회로의 스위치 역할을 함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모스 수신기는 모스 계전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relay)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와  사실상 동일한 장치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2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신호를 어떻게 멀리 보낼 수 있을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1" name="Picture 5" descr="circuito_morse_2"/>
          <p:cNvPicPr/>
          <p:nvPr/>
        </p:nvPicPr>
        <p:blipFill>
          <a:blip r:embed="rId1"/>
          <a:stretch/>
        </p:blipFill>
        <p:spPr>
          <a:xfrm>
            <a:off x="863640" y="1989000"/>
            <a:ext cx="7956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05960" y="1306440"/>
            <a:ext cx="7969320" cy="5291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철도에서 처음 사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843). 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곧이어 언론에서 사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845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점차 은행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투자은행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군부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정부 등으로 빠르게 확산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3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누가 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“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돈을 주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”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을 보낼 것인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4" name="Picture 2" descr="http://cache2.artprintimages.com/p/LRG/17/1750/C3T3D00Z/art-print/telegraph-lines-running-alongside-a-railway-at-a-remote-station-in-the-great-plains-of-america.jpg"/>
          <p:cNvPicPr/>
          <p:nvPr/>
        </p:nvPicPr>
        <p:blipFill>
          <a:blip r:embed="rId1"/>
          <a:stretch/>
        </p:blipFill>
        <p:spPr>
          <a:xfrm>
            <a:off x="826920" y="1916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Tawell </a:t>
            </a:r>
            <a:r>
              <a:rPr b="1" lang="ko-KR" sz="4000" spc="-1" strike="noStrike">
                <a:solidFill>
                  <a:srgbClr val="c1eeff"/>
                </a:solidFill>
                <a:latin typeface="Calibri"/>
              </a:rPr>
              <a:t>사건 </a:t>
            </a: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(1945)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845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년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월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일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Slough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에서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애인을 살해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John Tawell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이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런던으로 열차를 타고 도망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당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Slough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에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London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으로 보낸 전신 문구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ea157a"/>
                </a:solidFill>
                <a:latin typeface="Cambria"/>
              </a:rPr>
              <a:t>이 문구를 보내는 데 사용된 전신기가 바로 </a:t>
            </a:r>
            <a:r>
              <a:rPr b="0" lang="en-US" sz="2100" spc="-1" strike="noStrike">
                <a:solidFill>
                  <a:srgbClr val="ea157a"/>
                </a:solidFill>
                <a:latin typeface="Cambria"/>
              </a:rPr>
              <a:t>2-</a:t>
            </a:r>
            <a:r>
              <a:rPr b="0" lang="ko-KR" sz="2100" spc="-1" strike="noStrike">
                <a:solidFill>
                  <a:srgbClr val="ea157a"/>
                </a:solidFill>
                <a:latin typeface="Cambria"/>
              </a:rPr>
              <a:t>바늘 전신기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런던에서 체포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! </a:t>
            </a:r>
            <a:r>
              <a:rPr b="1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언론에서 전신의 힘을 깨달은 사건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!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그 흔적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en-US" sz="2400" spc="-1" strike="noStrike" u="sng">
                <a:solidFill>
                  <a:srgbClr val="eb8803"/>
                </a:solidFill>
                <a:uFillTx/>
                <a:latin typeface="Cambria"/>
                <a:hlinkClick r:id="rId1"/>
              </a:rPr>
              <a:t>The Telegraph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Cambria"/>
              </a:rPr>
              <a:t>The Daily Telegraph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등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7" name="Picture 4" descr="tawell1"/>
          <p:cNvPicPr/>
          <p:nvPr/>
        </p:nvPicPr>
        <p:blipFill>
          <a:blip r:embed="rId2"/>
          <a:stretch/>
        </p:blipFill>
        <p:spPr>
          <a:xfrm>
            <a:off x="5629320" y="0"/>
            <a:ext cx="3514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wires"/>
          <p:cNvPicPr/>
          <p:nvPr/>
        </p:nvPicPr>
        <p:blipFill>
          <a:blip r:embed="rId1"/>
          <a:stretch/>
        </p:blipFill>
        <p:spPr>
          <a:xfrm>
            <a:off x="5396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6208560" y="196200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880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대 뉴욕 시가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4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해외에는 어떻게 전신을 보낼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2" descr="eighthwond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368360"/>
            <a:ext cx="6696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lines"/>
          <p:cNvPicPr/>
          <p:nvPr/>
        </p:nvPicPr>
        <p:blipFill>
          <a:blip r:embed="rId1"/>
          <a:stretch/>
        </p:blipFill>
        <p:spPr>
          <a:xfrm>
            <a:off x="755640" y="35712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3892320" y="631980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913</a:t>
            </a: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의 세계 전신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4814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컴퓨터에서 색은 보통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GB (000000~FFFFFF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로 표현된다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(ed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G(reen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B(lue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6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진수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F00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ed, 00FF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Green, 0000FF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lu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0000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lack, FFFFFF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ite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그렇다면 </a:t>
            </a:r>
            <a:r>
              <a:rPr b="0" lang="ko-KR" sz="2000" spc="-1" strike="noStrike">
                <a:solidFill>
                  <a:srgbClr val="ffff00"/>
                </a:solidFill>
                <a:latin typeface="Cambria"/>
              </a:rPr>
              <a:t>노란색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의 색번호는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c811"/>
                </a:solidFill>
                <a:latin typeface="Cambria"/>
              </a:rPr>
              <a:t>RGB(255, 200, 17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6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진수 형태로 고치면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한글을 표현하는 데에는 몇 비트의 정보량이 필요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초당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3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프레임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320×240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화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트루칼라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분 짜리 동영상의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크기를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yte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단위로 계산해보자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메모장을 열어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만 입력한 후 저장하면 용량이 어떻게 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만약 인코딩 방식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NSI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utf-8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로 고치면 어떻게 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이것으로 무엇을 알 수 있는가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과제 확인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해결해야 할 과제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: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부호 체계의 통일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8" name="Picture 4" descr="morse_alphabet_1"/>
          <p:cNvPicPr/>
          <p:nvPr/>
        </p:nvPicPr>
        <p:blipFill>
          <a:blip r:embed="rId1"/>
          <a:stretch/>
        </p:blipFill>
        <p:spPr>
          <a:xfrm>
            <a:off x="755640" y="1335240"/>
            <a:ext cx="6480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7321680" cy="1646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훈련된 사람들만이 전신을 쓸 수 있다는 문제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보통 사람이 집에서 전신을 쓸 수 있는 방법 필요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Q: 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이러한 기술적 필요가 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전화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”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를 낳았는가</a:t>
            </a: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5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일반인은 어떻게 전신을 보낼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1" name="Picture 4" descr="aa_carnegie_work_2_m"/>
          <p:cNvPicPr/>
          <p:nvPr/>
        </p:nvPicPr>
        <p:blipFill>
          <a:blip r:embed="rId1"/>
          <a:stretch/>
        </p:blipFill>
        <p:spPr>
          <a:xfrm>
            <a:off x="755640" y="3284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messengers"/>
          <p:cNvPicPr/>
          <p:nvPr/>
        </p:nvPicPr>
        <p:blipFill>
          <a:blip r:embed="rId2"/>
          <a:stretch/>
        </p:blipFill>
        <p:spPr>
          <a:xfrm>
            <a:off x="3851280" y="3251160"/>
            <a:ext cx="4826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or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60418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3"/>
          <p:cNvSpPr/>
          <p:nvPr/>
        </p:nvSpPr>
        <p:spPr>
          <a:xfrm>
            <a:off x="363528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Western Union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http://naekil.com.ne.kr/images/image/junbo.jpg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0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사용자 삽입 이미지"/>
          <p:cNvPicPr/>
          <p:nvPr/>
        </p:nvPicPr>
        <p:blipFill>
          <a:blip r:embed="rId1"/>
          <a:stretch/>
        </p:blipFill>
        <p:spPr>
          <a:xfrm>
            <a:off x="395280" y="692280"/>
            <a:ext cx="83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yberlove"/>
          <p:cNvPicPr/>
          <p:nvPr/>
        </p:nvPicPr>
        <p:blipFill>
          <a:blip r:embed="rId1"/>
          <a:stretch/>
        </p:blipFill>
        <p:spPr>
          <a:xfrm>
            <a:off x="61128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6076080" y="24526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19</a:t>
            </a:r>
            <a:r>
              <a:rPr b="0" lang="ko-KR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세기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Cyber lover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실린더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=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음의 높이와 길이가 부호화된 정보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디지털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+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아날로그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실로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=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기록된 정보를 일정한 소리로 변환해주는 디코더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복습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: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오르골을 이용한 정보 이론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81" name="Picture 4" descr="http://pds4.egloos.com/pds/200703/21/89/c0069289_02031528.jpg"/>
          <p:cNvPicPr/>
          <p:nvPr/>
        </p:nvPicPr>
        <p:blipFill>
          <a:blip r:embed="rId1"/>
          <a:stretch/>
        </p:blipFill>
        <p:spPr>
          <a:xfrm>
            <a:off x="900000" y="2349360"/>
            <a:ext cx="6193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교통과 통신을 분리시킨 기술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lectric telegraph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이전에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optical telegraph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존재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그 이전엔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傳信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, Telegraphy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84" name="Picture 4" descr="optical tele1"/>
          <p:cNvPicPr/>
          <p:nvPr/>
        </p:nvPicPr>
        <p:blipFill>
          <a:blip r:embed="rId1"/>
          <a:stretch/>
        </p:blipFill>
        <p:spPr>
          <a:xfrm>
            <a:off x="826920" y="2924280"/>
            <a:ext cx="2241720" cy="3549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optical tele2"/>
          <p:cNvPicPr/>
          <p:nvPr/>
        </p:nvPicPr>
        <p:blipFill>
          <a:blip r:embed="rId2"/>
          <a:stretch/>
        </p:blipFill>
        <p:spPr>
          <a:xfrm>
            <a:off x="3348000" y="2924280"/>
            <a:ext cx="2251080" cy="3600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3"/>
          <a:stretch/>
        </p:blipFill>
        <p:spPr>
          <a:xfrm>
            <a:off x="5724360" y="2924280"/>
            <a:ext cx="256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copy_optical_telegraph_france_2"/>
          <p:cNvPicPr/>
          <p:nvPr/>
        </p:nvPicPr>
        <p:blipFill>
          <a:blip r:embed="rId1"/>
          <a:stretch/>
        </p:blipFill>
        <p:spPr>
          <a:xfrm>
            <a:off x="826920" y="1484280"/>
            <a:ext cx="4913640" cy="5086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508720" y="3573000"/>
            <a:ext cx="3240000" cy="2519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3000mile </a:t>
            </a: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커버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80mile/3</a:t>
            </a: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분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용도는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언제까지 사용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프랑스의 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Optical Telegraphy Network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705960" y="5474880"/>
            <a:ext cx="6458040" cy="9781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쿠크와 모스는 과학의 문외한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휘트스톤은 전신의 상업적 중요성에 대해 무관심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電信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, Electric Telegraphy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2629080" y="2690640"/>
            <a:ext cx="38862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629080" y="2690640"/>
            <a:ext cx="38862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4" name="Picture 13" descr="William Cooke"/>
          <p:cNvPicPr/>
          <p:nvPr/>
        </p:nvPicPr>
        <p:blipFill>
          <a:blip r:embed="rId1"/>
          <a:stretch/>
        </p:blipFill>
        <p:spPr>
          <a:xfrm>
            <a:off x="822240" y="1413000"/>
            <a:ext cx="2400480" cy="37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Charles Wheatstone"/>
          <p:cNvPicPr/>
          <p:nvPr/>
        </p:nvPicPr>
        <p:blipFill>
          <a:blip r:embed="rId2"/>
          <a:stretch/>
        </p:blipFill>
        <p:spPr>
          <a:xfrm>
            <a:off x="3343320" y="1413000"/>
            <a:ext cx="2724120" cy="3744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5" descr="Sam Morse"/>
          <p:cNvPicPr/>
          <p:nvPr/>
        </p:nvPicPr>
        <p:blipFill>
          <a:blip r:embed="rId3"/>
          <a:stretch/>
        </p:blipFill>
        <p:spPr>
          <a:xfrm>
            <a:off x="6156360" y="1413000"/>
            <a:ext cx="2448000" cy="32320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6"/>
          <p:cNvSpPr/>
          <p:nvPr/>
        </p:nvSpPr>
        <p:spPr>
          <a:xfrm>
            <a:off x="6566760" y="47242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Samuel Morse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16932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전지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검류계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스위치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로 이루어진 전기회로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모두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1820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년대에 구비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 구성에 필요한 것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0" name="Picture 5" descr="http://www.topianet.co.kr/topia/6/6j/Images/6j010203AT.JPG"/>
          <p:cNvPicPr/>
          <p:nvPr/>
        </p:nvPicPr>
        <p:blipFill>
          <a:blip r:embed="rId1"/>
          <a:stretch/>
        </p:blipFill>
        <p:spPr>
          <a:xfrm>
            <a:off x="826920" y="2313000"/>
            <a:ext cx="5473800" cy="3635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826920" y="6093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것을 곧바로 통신장치로 활용할 수 있을까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실용화까지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~20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 걸림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왜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7537680" cy="55069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아래의 회로는 몇 비트의 정보를 표현할 수 있을까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해법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부호 체계와 가시화 장치 제작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영국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: 5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837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843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사운더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미국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모스 부호 체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+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모스 프린터 또는 사운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1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복잡한 정보를 어떻게 표현할 것인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4" name="Picture 2" descr="http://manlijung.com.ne.kr/animation/hero.gif"/>
          <p:cNvPicPr/>
          <p:nvPr/>
        </p:nvPicPr>
        <p:blipFill>
          <a:blip r:embed="rId1"/>
          <a:stretch/>
        </p:blipFill>
        <p:spPr>
          <a:xfrm>
            <a:off x="900000" y="1844640"/>
            <a:ext cx="5472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Cooke-Wheatstone 5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바늘 전신기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1837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7" name="Picture 5" descr="cooke_telegraph2"/>
          <p:cNvPicPr/>
          <p:nvPr/>
        </p:nvPicPr>
        <p:blipFill>
          <a:blip r:embed="rId1"/>
          <a:stretch/>
        </p:blipFill>
        <p:spPr>
          <a:xfrm>
            <a:off x="3708360" y="1336680"/>
            <a:ext cx="2664000" cy="3676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ooke_telegraph1"/>
          <p:cNvPicPr/>
          <p:nvPr/>
        </p:nvPicPr>
        <p:blipFill>
          <a:blip r:embed="rId2"/>
          <a:stretch/>
        </p:blipFill>
        <p:spPr>
          <a:xfrm>
            <a:off x="900000" y="1366920"/>
            <a:ext cx="2735280" cy="3647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Five-Needle-Telegraph-Letter"/>
          <p:cNvPicPr/>
          <p:nvPr/>
        </p:nvPicPr>
        <p:blipFill>
          <a:blip r:embed="rId3"/>
          <a:stretch/>
        </p:blipFill>
        <p:spPr>
          <a:xfrm>
            <a:off x="900000" y="5157720"/>
            <a:ext cx="5654880" cy="1700280"/>
          </a:xfrm>
          <a:prstGeom prst="rect">
            <a:avLst/>
          </a:prstGeom>
          <a:ln w="0">
            <a:noFill/>
          </a:ln>
        </p:spPr>
      </p:pic>
      <p:sp>
        <p:nvSpPr>
          <p:cNvPr id="410" name="Line 8"/>
          <p:cNvSpPr/>
          <p:nvPr/>
        </p:nvSpPr>
        <p:spPr>
          <a:xfrm>
            <a:off x="4284720" y="3070080"/>
            <a:ext cx="21744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5509800" y="3070080"/>
            <a:ext cx="21420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5506920" y="3070080"/>
            <a:ext cx="21744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4284360" y="3070080"/>
            <a:ext cx="21420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4643280" y="3070080"/>
            <a:ext cx="21456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Korean</cp:lastModifiedBy>
  <dcterms:modified xsi:type="dcterms:W3CDTF">2011-09-21T04:49:03Z</dcterms:modified>
  <cp:revision>109</cp:revision>
  <dc:subject/>
  <dc:title>중세 유럽의 과학</dc:title>
</cp:coreProperties>
</file>